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cashreg.wav" ContentType="audio/x-wav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F86B-2644-4053-8389-2DC2B59DE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AF3F-2EEC-434F-90DC-964A0DE2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6752-F620-45BA-A93A-F2D80B2C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4C4F-3774-463A-8AF8-342734379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1CFD-2253-4A3C-BF37-B33F2B9D2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75A4-E120-469E-BA5A-41DE0E0A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E205-7108-45A5-B0CF-2AA8D0F5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218C-BF88-48A5-AA5C-F36525A4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EFF9-8656-4332-8749-456BA190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0E49-5D0B-4B19-89B3-20958BCC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B3CC-C014-498D-8400-9D5D6B52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5830-2F3A-4A98-9E9E-E0A9F32F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58B2-7347-4F61-85AD-B3E80DF3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EAB7-910A-400F-A840-15DC8145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4CE0-0408-4721-9F6D-029D23D5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3A72-352D-4271-986E-DD32525E2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6DF5-0EED-4FB3-AE4C-4FABC761F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00ECA-21E7-429C-8167-9E17F2D8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07965-F7C2-4423-BF9E-6F02AA94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296AE-B213-42DB-8C39-8018ED80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C10AB-3C29-4497-ACF3-B7436B4A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3AF32-7660-46A5-8DD5-1AC0B1D8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9570-9A86-4AEA-9C5B-A8BE46E7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48F5C-F51D-4B2B-AB74-DBCFB5B6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808A4-5343-48D5-9924-AE6A3593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E51CC-B9CA-48EF-A811-885A80BA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1E506-97A4-4C3F-865C-CFC84B4B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73401-C67E-4233-B6BC-8AEF36FC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8F81E-9CC5-4217-B677-51ED92B82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56441-1512-4144-83CD-FB7B96B11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31F2A-4845-4663-B8BF-845C53E79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C320C-60F9-426E-B941-3A5E0796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512AF-F461-448C-821D-40714C93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F7A0-0E61-4147-8647-3048EEA5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753A2-13E2-4AB5-BD50-946CFB22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61FF4-EE60-4C10-9271-E7C557D2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2A658-A51F-4936-8547-B6789DA3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657B0-C555-4246-8EB5-4CB49D10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44B61-990E-4ECE-A2B3-0FA5AA92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4AC96-4E6E-4737-9E3F-7D198689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B012A-8C93-4446-A75B-9CBEAA6B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825AA-F1EE-4968-944C-DCCD11DF5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F097C-DD21-4B8A-AAA6-9D1DEF457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784F-1673-4D00-8038-CAAB7B1E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ACAB-58BA-4D29-B02F-FAD0D08A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F96B-4460-423B-B516-5A8FAE69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40F8-7F0A-4A45-926D-47F005DB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10FC-A025-4346-AA6D-EE46BE08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14400"/>
            <a:ext cx="8229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840a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fe840a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560" y="1379160"/>
            <a:ext cx="741708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409E-A9A3-4494-9A4B-412FC46CF86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14400"/>
            <a:ext cx="8229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840a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fe840a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26560" y="1379160"/>
            <a:ext cx="741708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290E-6B51-4F28-819F-4E9F74F0ECC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14400"/>
            <a:ext cx="8229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840a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fe840a"/>
              </a:solidFill>
              <a:latin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26560" y="1379160"/>
            <a:ext cx="741708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3937-7839-488F-95C2-0F0D0C11F5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1F7B-0572-4F91-9B64-CFAD378C9CE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图片 7" descr="图片1333666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6.xml"/><Relationship Id="rId8" Type="http://schemas.openxmlformats.org/officeDocument/2006/relationships/slide" Target="slide8.xml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" Target="slide2.xml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" Target="slide2.xml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" Target="slide2.xml"/><Relationship Id="rId10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Oval 5"/>
          <p:cNvSpPr/>
          <p:nvPr/>
        </p:nvSpPr>
        <p:spPr>
          <a:xfrm>
            <a:off x="2222640" y="3319560"/>
            <a:ext cx="68580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181080" y="3352680"/>
            <a:ext cx="877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设 计 图 案（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517840" y="2558880"/>
            <a:ext cx="6480000" cy="3240"/>
            <a:chOff x="2517840" y="2558880"/>
            <a:chExt cx="6480000" cy="3240"/>
          </a:xfrm>
        </p:grpSpPr>
        <p:sp>
          <p:nvSpPr>
            <p:cNvPr id="168" name="Line 10"/>
            <p:cNvSpPr/>
            <p:nvPr/>
          </p:nvSpPr>
          <p:spPr>
            <a:xfrm>
              <a:off x="2517840" y="2558880"/>
              <a:ext cx="6480000" cy="3240"/>
            </a:xfrm>
            <a:prstGeom prst="line">
              <a:avLst/>
            </a:prstGeom>
            <a:ln w="57240">
              <a:solidFill>
                <a:srgbClr val="8dd2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2517840" y="2558880"/>
              <a:ext cx="648000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0" name="组合 1"/>
          <p:cNvGrpSpPr/>
          <p:nvPr/>
        </p:nvGrpSpPr>
        <p:grpSpPr>
          <a:xfrm>
            <a:off x="0" y="1600200"/>
            <a:ext cx="3031920" cy="990720"/>
            <a:chOff x="0" y="1600200"/>
            <a:chExt cx="3031920" cy="990720"/>
          </a:xfrm>
        </p:grpSpPr>
        <p:sp>
          <p:nvSpPr>
            <p:cNvPr id="171" name="Rectangle 7"/>
            <p:cNvSpPr/>
            <p:nvPr/>
          </p:nvSpPr>
          <p:spPr>
            <a:xfrm>
              <a:off x="0" y="1600200"/>
              <a:ext cx="2761920" cy="990720"/>
            </a:xfrm>
            <a:prstGeom prst="rect">
              <a:avLst/>
            </a:prstGeom>
            <a:solidFill>
              <a:srgbClr val="8dd2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Oval 8"/>
            <p:cNvSpPr/>
            <p:nvPr/>
          </p:nvSpPr>
          <p:spPr>
            <a:xfrm>
              <a:off x="2465640" y="1600200"/>
              <a:ext cx="566280" cy="743040"/>
            </a:xfrm>
            <a:prstGeom prst="ellipse">
              <a:avLst/>
            </a:prstGeom>
            <a:solidFill>
              <a:srgbClr val="8dd2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Rectangle 11"/>
            <p:cNvSpPr/>
            <p:nvPr/>
          </p:nvSpPr>
          <p:spPr>
            <a:xfrm>
              <a:off x="2678040" y="1962000"/>
              <a:ext cx="353880" cy="609480"/>
            </a:xfrm>
            <a:prstGeom prst="rect">
              <a:avLst/>
            </a:prstGeom>
            <a:solidFill>
              <a:srgbClr val="8dd2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4" name="Rectangle 9"/>
          <p:cNvSpPr/>
          <p:nvPr/>
        </p:nvSpPr>
        <p:spPr>
          <a:xfrm>
            <a:off x="3186360" y="1812960"/>
            <a:ext cx="26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二 单元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形的平移、旋转与轴对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1" descr="捕获.PNG"/>
          <p:cNvPicPr/>
          <p:nvPr/>
        </p:nvPicPr>
        <p:blipFill>
          <a:blip r:embed="rId2"/>
          <a:stretch/>
        </p:blipFill>
        <p:spPr>
          <a:xfrm>
            <a:off x="1100160" y="2798640"/>
            <a:ext cx="1928880" cy="214308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2" descr="捕获7.PNG"/>
          <p:cNvPicPr/>
          <p:nvPr/>
        </p:nvPicPr>
        <p:blipFill>
          <a:blip r:embed="rId3"/>
          <a:stretch/>
        </p:blipFill>
        <p:spPr>
          <a:xfrm>
            <a:off x="6315120" y="2870280"/>
            <a:ext cx="1857240" cy="2071440"/>
          </a:xfrm>
          <a:prstGeom prst="rect">
            <a:avLst/>
          </a:prstGeom>
          <a:ln w="0">
            <a:noFill/>
          </a:ln>
        </p:spPr>
      </p:pic>
      <p:sp>
        <p:nvSpPr>
          <p:cNvPr id="177" name="右箭头 3"/>
          <p:cNvSpPr/>
          <p:nvPr/>
        </p:nvSpPr>
        <p:spPr>
          <a:xfrm>
            <a:off x="2957400" y="3798720"/>
            <a:ext cx="642960" cy="214560"/>
          </a:xfrm>
          <a:prstGeom prst="rightArrow">
            <a:avLst>
              <a:gd name="adj1" fmla="val 50000"/>
              <a:gd name="adj2" fmla="val 499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右箭头 4"/>
          <p:cNvSpPr/>
          <p:nvPr/>
        </p:nvSpPr>
        <p:spPr>
          <a:xfrm>
            <a:off x="5672160" y="3870360"/>
            <a:ext cx="642960" cy="214200"/>
          </a:xfrm>
          <a:prstGeom prst="rightArrow">
            <a:avLst>
              <a:gd name="adj1" fmla="val 50000"/>
              <a:gd name="adj2" fmla="val 5002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矩形 5"/>
          <p:cNvSpPr/>
          <p:nvPr/>
        </p:nvSpPr>
        <p:spPr>
          <a:xfrm>
            <a:off x="3672000" y="2941560"/>
            <a:ext cx="1928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还  可与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468360" y="1197000"/>
            <a:ext cx="835812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下面是用轴对称设计出的图案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说一说图案是怎样画出来的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Box 7"/>
          <p:cNvSpPr/>
          <p:nvPr/>
        </p:nvSpPr>
        <p:spPr>
          <a:xfrm>
            <a:off x="4100400" y="3156120"/>
            <a:ext cx="13575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0000"/>
                </a:solidFill>
                <a:latin typeface="Calibri"/>
              </a:rPr>
              <a:t>？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Box 9"/>
          <p:cNvSpPr/>
          <p:nvPr/>
        </p:nvSpPr>
        <p:spPr>
          <a:xfrm>
            <a:off x="1490760" y="5459400"/>
            <a:ext cx="1352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haroni"/>
                <a:ea typeface="微软雅黑"/>
              </a:rPr>
              <a:t> 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haroni"/>
                <a:ea typeface="微软雅黑"/>
                <a:hlinkClick r:id="rId4" action="ppaction://hlinksldjump"/>
              </a:rPr>
              <a:t>方法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1476360" y="5445000"/>
            <a:ext cx="1352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haroni"/>
                <a:ea typeface="微软雅黑"/>
              </a:rPr>
              <a:t> 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haroni"/>
                <a:ea typeface="微软雅黑"/>
                <a:hlinkClick r:id="rId5" action="ppaction://hlinksldjump"/>
              </a:rPr>
              <a:t>方法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4" name="Group 20"/>
          <p:cNvGrpSpPr/>
          <p:nvPr/>
        </p:nvGrpSpPr>
        <p:grpSpPr>
          <a:xfrm>
            <a:off x="1476360" y="5373720"/>
            <a:ext cx="1728720" cy="647640"/>
            <a:chOff x="1476360" y="5373720"/>
            <a:chExt cx="1728720" cy="647640"/>
          </a:xfrm>
        </p:grpSpPr>
        <p:sp>
          <p:nvSpPr>
            <p:cNvPr id="185" name="椭圆 8"/>
            <p:cNvSpPr/>
            <p:nvPr/>
          </p:nvSpPr>
          <p:spPr>
            <a:xfrm>
              <a:off x="1476360" y="5373720"/>
              <a:ext cx="1728720" cy="647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TextBox 9"/>
            <p:cNvSpPr/>
            <p:nvPr/>
          </p:nvSpPr>
          <p:spPr>
            <a:xfrm>
              <a:off x="1635120" y="5459400"/>
              <a:ext cx="1352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haroni"/>
                  <a:ea typeface="微软雅黑"/>
                </a:rPr>
                <a:t> </a:t>
              </a: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Aharoni"/>
                  <a:ea typeface="微软雅黑"/>
                  <a:hlinkClick r:id="rId6" action="ppaction://hlinksldjump"/>
                </a:rPr>
                <a:t>方法一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7" name="Group 21"/>
          <p:cNvGrpSpPr/>
          <p:nvPr/>
        </p:nvGrpSpPr>
        <p:grpSpPr>
          <a:xfrm>
            <a:off x="3780000" y="5373720"/>
            <a:ext cx="1728720" cy="647640"/>
            <a:chOff x="3780000" y="5373720"/>
            <a:chExt cx="1728720" cy="647640"/>
          </a:xfrm>
        </p:grpSpPr>
        <p:sp>
          <p:nvSpPr>
            <p:cNvPr id="188" name="椭圆 8"/>
            <p:cNvSpPr/>
            <p:nvPr/>
          </p:nvSpPr>
          <p:spPr>
            <a:xfrm>
              <a:off x="3780000" y="5373720"/>
              <a:ext cx="1728720" cy="647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TextBox 9"/>
            <p:cNvSpPr/>
            <p:nvPr/>
          </p:nvSpPr>
          <p:spPr>
            <a:xfrm>
              <a:off x="3938760" y="5459400"/>
              <a:ext cx="1352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haroni"/>
                  <a:ea typeface="微软雅黑"/>
                </a:rPr>
                <a:t> </a:t>
              </a: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Aharoni"/>
                  <a:ea typeface="微软雅黑"/>
                  <a:hlinkClick r:id="rId7" action="ppaction://hlinksldjump"/>
                </a:rPr>
                <a:t>方法二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0" name="Group 24"/>
          <p:cNvGrpSpPr/>
          <p:nvPr/>
        </p:nvGrpSpPr>
        <p:grpSpPr>
          <a:xfrm>
            <a:off x="6084720" y="5373720"/>
            <a:ext cx="1728720" cy="647640"/>
            <a:chOff x="6084720" y="5373720"/>
            <a:chExt cx="1728720" cy="647640"/>
          </a:xfrm>
        </p:grpSpPr>
        <p:sp>
          <p:nvSpPr>
            <p:cNvPr id="191" name="椭圆 8"/>
            <p:cNvSpPr/>
            <p:nvPr/>
          </p:nvSpPr>
          <p:spPr>
            <a:xfrm>
              <a:off x="6084720" y="5373720"/>
              <a:ext cx="1728720" cy="647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TextBox 9"/>
            <p:cNvSpPr/>
            <p:nvPr/>
          </p:nvSpPr>
          <p:spPr>
            <a:xfrm>
              <a:off x="6243480" y="5459400"/>
              <a:ext cx="1352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haroni"/>
                  <a:ea typeface="微软雅黑"/>
                </a:rPr>
                <a:t> </a:t>
              </a: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Aharoni"/>
                  <a:ea typeface="微软雅黑"/>
                  <a:hlinkClick r:id="rId8" action="ppaction://hlinksldjump"/>
                </a:rPr>
                <a:t>方法三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2"/>
          <p:cNvSpPr/>
          <p:nvPr/>
        </p:nvSpPr>
        <p:spPr>
          <a:xfrm>
            <a:off x="1562040" y="1643040"/>
            <a:ext cx="6048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练一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画出图形的另一半，使它们成为轴对称图形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3" descr="小数五年级上册_页面_039"/>
          <p:cNvPicPr/>
          <p:nvPr/>
        </p:nvPicPr>
        <p:blipFill>
          <a:blip r:embed="rId2"/>
          <a:srcRect l="16204" t="44625" r="63843" b="40756"/>
          <a:stretch/>
        </p:blipFill>
        <p:spPr>
          <a:xfrm>
            <a:off x="1517760" y="3141720"/>
            <a:ext cx="2592360" cy="2666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小数五年级上册_页面_039"/>
          <p:cNvPicPr/>
          <p:nvPr/>
        </p:nvPicPr>
        <p:blipFill>
          <a:blip r:embed="rId3"/>
          <a:srcRect l="55554" t="44625" r="18943" b="40756"/>
          <a:stretch/>
        </p:blipFill>
        <p:spPr>
          <a:xfrm>
            <a:off x="4643280" y="3141720"/>
            <a:ext cx="3313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图片 1" descr="捕获.PNG"/>
          <p:cNvPicPr/>
          <p:nvPr/>
        </p:nvPicPr>
        <p:blipFill>
          <a:blip r:embed="rId2"/>
          <a:stretch/>
        </p:blipFill>
        <p:spPr>
          <a:xfrm>
            <a:off x="2527200" y="1628640"/>
            <a:ext cx="4214880" cy="424836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3" descr="捕获15.PNG"/>
          <p:cNvPicPr/>
          <p:nvPr/>
        </p:nvPicPr>
        <p:blipFill>
          <a:blip r:embed="rId3"/>
          <a:stretch/>
        </p:blipFill>
        <p:spPr>
          <a:xfrm>
            <a:off x="4527720" y="1978200"/>
            <a:ext cx="1928520" cy="185868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4" descr="捕获9.PNG"/>
          <p:cNvPicPr/>
          <p:nvPr/>
        </p:nvPicPr>
        <p:blipFill>
          <a:blip r:embed="rId4"/>
          <a:stretch/>
        </p:blipFill>
        <p:spPr>
          <a:xfrm>
            <a:off x="2670120" y="1986120"/>
            <a:ext cx="1886040" cy="18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2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2" descr="捕获17.PNG"/>
          <p:cNvPicPr/>
          <p:nvPr/>
        </p:nvPicPr>
        <p:blipFill>
          <a:blip r:embed="rId2"/>
          <a:stretch/>
        </p:blipFill>
        <p:spPr>
          <a:xfrm>
            <a:off x="2585880" y="1962000"/>
            <a:ext cx="3929400" cy="378648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4" descr="捕获18.PNG"/>
          <p:cNvPicPr/>
          <p:nvPr/>
        </p:nvPicPr>
        <p:blipFill>
          <a:blip r:embed="rId3"/>
          <a:stretch/>
        </p:blipFill>
        <p:spPr>
          <a:xfrm>
            <a:off x="2585880" y="1962000"/>
            <a:ext cx="3929400" cy="192888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5" descr="捕获19.PNG"/>
          <p:cNvPicPr/>
          <p:nvPr/>
        </p:nvPicPr>
        <p:blipFill>
          <a:blip r:embed="rId4"/>
          <a:stretch/>
        </p:blipFill>
        <p:spPr>
          <a:xfrm>
            <a:off x="2585880" y="3819600"/>
            <a:ext cx="3929400" cy="192888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11"/>
          <p:cNvSpPr/>
          <p:nvPr/>
        </p:nvSpPr>
        <p:spPr>
          <a:xfrm>
            <a:off x="7378200" y="573264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ff"/>
                </a:solidFill>
                <a:uFillTx/>
                <a:latin typeface="Aharoni"/>
                <a:ea typeface="微软雅黑"/>
                <a:hlinkClick r:id="rId5" action="ppaction://hlinksldjump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3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图片 2" descr="捕获4.PNG"/>
          <p:cNvPicPr/>
          <p:nvPr/>
        </p:nvPicPr>
        <p:blipFill>
          <a:blip r:embed="rId2"/>
          <a:stretch/>
        </p:blipFill>
        <p:spPr>
          <a:xfrm>
            <a:off x="1994040" y="1550880"/>
            <a:ext cx="4857480" cy="464364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3" descr="捕获9.PNG"/>
          <p:cNvPicPr/>
          <p:nvPr/>
        </p:nvPicPr>
        <p:blipFill>
          <a:blip r:embed="rId3"/>
          <a:stretch/>
        </p:blipFill>
        <p:spPr>
          <a:xfrm>
            <a:off x="2494080" y="1979640"/>
            <a:ext cx="2100240" cy="200016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7" descr="捕获11.PNG"/>
          <p:cNvPicPr/>
          <p:nvPr/>
        </p:nvPicPr>
        <p:blipFill>
          <a:blip r:embed="rId4"/>
          <a:stretch/>
        </p:blipFill>
        <p:spPr>
          <a:xfrm>
            <a:off x="2422440" y="3908520"/>
            <a:ext cx="22147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2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图片 1" descr="捕获2.PNG"/>
          <p:cNvPicPr/>
          <p:nvPr/>
        </p:nvPicPr>
        <p:blipFill>
          <a:blip r:embed="rId2"/>
          <a:stretch/>
        </p:blipFill>
        <p:spPr>
          <a:xfrm>
            <a:off x="2362320" y="1744560"/>
            <a:ext cx="4419360" cy="448164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2" descr="捕获12.PNG"/>
          <p:cNvPicPr/>
          <p:nvPr/>
        </p:nvPicPr>
        <p:blipFill>
          <a:blip r:embed="rId3"/>
          <a:stretch/>
        </p:blipFill>
        <p:spPr>
          <a:xfrm>
            <a:off x="2627280" y="1986120"/>
            <a:ext cx="1930320" cy="392256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3" descr="捕获13.PNG"/>
          <p:cNvPicPr/>
          <p:nvPr/>
        </p:nvPicPr>
        <p:blipFill>
          <a:blip r:embed="rId4"/>
          <a:stretch/>
        </p:blipFill>
        <p:spPr>
          <a:xfrm>
            <a:off x="4545000" y="1959120"/>
            <a:ext cx="1992240" cy="392256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2"/>
          <p:cNvSpPr/>
          <p:nvPr/>
        </p:nvSpPr>
        <p:spPr>
          <a:xfrm>
            <a:off x="7378200" y="573264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ff"/>
                </a:solidFill>
                <a:uFillTx/>
                <a:latin typeface="Aharoni"/>
                <a:ea typeface="微软雅黑"/>
                <a:hlinkClick r:id="rId5" action="ppaction://hlinksldjump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3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1" descr="捕获.PNG"/>
          <p:cNvPicPr/>
          <p:nvPr/>
        </p:nvPicPr>
        <p:blipFill>
          <a:blip r:embed="rId2"/>
          <a:stretch/>
        </p:blipFill>
        <p:spPr>
          <a:xfrm>
            <a:off x="2540160" y="1609560"/>
            <a:ext cx="4214520" cy="457200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2" descr="捕获15.PNG"/>
          <p:cNvPicPr/>
          <p:nvPr/>
        </p:nvPicPr>
        <p:blipFill>
          <a:blip r:embed="rId3"/>
          <a:stretch/>
        </p:blipFill>
        <p:spPr>
          <a:xfrm>
            <a:off x="4540320" y="1967040"/>
            <a:ext cx="1928880" cy="200016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3" descr="捕获9.PNG"/>
          <p:cNvPicPr/>
          <p:nvPr/>
        </p:nvPicPr>
        <p:blipFill>
          <a:blip r:embed="rId4"/>
          <a:stretch/>
        </p:blipFill>
        <p:spPr>
          <a:xfrm>
            <a:off x="2682720" y="1967040"/>
            <a:ext cx="1886040" cy="200016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4" descr="捕获15.PNG"/>
          <p:cNvPicPr/>
          <p:nvPr/>
        </p:nvPicPr>
        <p:blipFill>
          <a:blip r:embed="rId5"/>
          <a:stretch/>
        </p:blipFill>
        <p:spPr>
          <a:xfrm>
            <a:off x="4540320" y="1967040"/>
            <a:ext cx="1928880" cy="200016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6" descr="捕获21.PNG"/>
          <p:cNvPicPr/>
          <p:nvPr/>
        </p:nvPicPr>
        <p:blipFill>
          <a:blip r:embed="rId6"/>
          <a:stretch/>
        </p:blipFill>
        <p:spPr>
          <a:xfrm>
            <a:off x="4540320" y="3967200"/>
            <a:ext cx="1928880" cy="200016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7" descr="捕获21.PNG"/>
          <p:cNvPicPr/>
          <p:nvPr/>
        </p:nvPicPr>
        <p:blipFill>
          <a:blip r:embed="rId7"/>
          <a:stretch/>
        </p:blipFill>
        <p:spPr>
          <a:xfrm>
            <a:off x="4540320" y="3967200"/>
            <a:ext cx="1928880" cy="200016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9" descr="捕获23.PNG"/>
          <p:cNvPicPr/>
          <p:nvPr/>
        </p:nvPicPr>
        <p:blipFill>
          <a:blip r:embed="rId8"/>
          <a:stretch/>
        </p:blipFill>
        <p:spPr>
          <a:xfrm>
            <a:off x="2682720" y="3967200"/>
            <a:ext cx="1857600" cy="20001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9"/>
          <p:cNvSpPr/>
          <p:nvPr/>
        </p:nvSpPr>
        <p:spPr>
          <a:xfrm>
            <a:off x="7378200" y="573264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ff"/>
                </a:solidFill>
                <a:uFillTx/>
                <a:latin typeface="Aharoni"/>
                <a:ea typeface="微软雅黑"/>
                <a:hlinkClick r:id="rId9" action="ppaction://hlinksldjump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2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1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" dur="5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1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" dur="5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未标题-1"/>
          <p:cNvPicPr/>
          <p:nvPr/>
        </p:nvPicPr>
        <p:blipFill>
          <a:blip r:embed="rId2"/>
          <a:stretch/>
        </p:blipFill>
        <p:spPr>
          <a:xfrm>
            <a:off x="2362320" y="2666880"/>
            <a:ext cx="5105160" cy="1263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/>
  <dcterms:modified xsi:type="dcterms:W3CDTF">2017-11-07T22:39:11Z</dcterms:modified>
  <cp:revision>0</cp:revision>
  <dc:subject> </dc:subject>
  <dc:title> </dc:title>
</cp:coreProperties>
</file>